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057C-49D4-49F5-B2E2-CA270C93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2A76-A23E-4AFC-AFAE-0F1F7136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0BAF-E225-40EE-8F6B-8193AAA3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15A2-4FA1-4720-8EAA-12BE1E8E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52E-783C-41B8-90C7-D9C397DA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0FE7-1810-43EA-8DC4-3F9F8543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5306-6003-4616-A517-74D8C80D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F29C-4E2E-4582-A183-10447AB3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EE9E-28DF-45BA-947D-2255B75A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CB71-5C42-4616-A74A-AE1D4004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104A-B5D9-4B26-9A61-3A8C6836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0B34-55F8-4094-9AB8-436A5BC7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6125-95A8-4D85-9BA2-583D945CAE3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 Light"/>
              </a:rPr>
              <a:t>Macskánk születet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2311560"/>
          <a:ext cx="8128080" cy="2966760"/>
        </p:xfrm>
        <a:graphic>
          <a:graphicData uri="http://schemas.openxmlformats.org/drawingml/2006/table">
            <a:tbl>
              <a:tblPr/>
              <a:tblGrid>
                <a:gridCol w="4064040"/>
                <a:gridCol w="406404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scicánk tömege 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étf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er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ütörtö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nt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omb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sárn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10T20:54:14Z</dcterms:created>
  <dc:creator/>
  <dc:description/>
  <dc:language>en-US</dc:language>
  <cp:lastModifiedBy/>
  <dcterms:modified xsi:type="dcterms:W3CDTF">2020-12-10T20:54:22Z</dcterms:modified>
  <cp:revision>1</cp:revision>
  <dc:subject/>
  <dc:title/>
</cp:coreProperties>
</file>