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858-5CE6-4F21-9CCA-33592EF3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F7E-4A03-4C6E-8419-1C19DE71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7E5-CF6F-46E4-B949-EB1F0B79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FF8-E6C3-4E15-BDD7-BB9EE566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8F0-E685-4CDB-A10D-4854B523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DA0-653A-4173-92B5-14F2391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97F-4152-497B-B880-52654E33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76F-7ED0-4FBC-872A-9FF82F5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D82-10B5-444B-AEE4-4496332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1BA-B3C4-427E-9693-0F0BF6E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B73-8C96-4867-8BB3-9D05DC7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362-2F38-4769-B049-C13AB794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03E-D289-4861-A976-552C562795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omszéd Isk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. dec. 6. 19 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92240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462800" y="108000"/>
            <a:ext cx="1572840" cy="1800000"/>
            <a:chOff x="7462800" y="108000"/>
            <a:chExt cx="1572840" cy="1800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462800" y="108000"/>
              <a:ext cx="157248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7463160" y="988200"/>
              <a:ext cx="1572480" cy="91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Fejet Len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ár azt hallottam, nagyon igyekszel, nem mennek olyan jól a dolgok. Talán azért, mert szétszórt va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óbálj meg néh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djuk –  óránként egyszer, pár percre megállni, és átgondolni, mit akartál az elmúlt órában csinálni és mi a célod a következő órá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81680" y="950760"/>
            <a:ext cx="392400" cy="452520"/>
            <a:chOff x="6781680" y="950760"/>
            <a:chExt cx="392400" cy="452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9240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2880"/>
              <a:ext cx="392040" cy="23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53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6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7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8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8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8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9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9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Mik Rob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tív vagy, minden közösségi programban részt veszel, dolgozol az iskolai önkormányzatba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igyázz, hogy mindenre, még alvásra is megfelelő mennyiségű időd jus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781680" y="950760"/>
            <a:ext cx="389160" cy="448560"/>
            <a:chOff x="6781680" y="950760"/>
            <a:chExt cx="389160" cy="448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891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0720"/>
              <a:ext cx="3888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104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2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8:42:05Z</dcterms:created>
  <dc:creator/>
  <dc:description/>
  <dc:language>en-US</dc:language>
  <cp:lastModifiedBy>OKÉV</cp:lastModifiedBy>
  <dcterms:modified xsi:type="dcterms:W3CDTF">2005-08-17T20:29:03Z</dcterms:modified>
  <cp:revision>20</cp:revision>
  <dc:subject/>
  <dc:title>Szomszéd Iskola</dc:title>
</cp:coreProperties>
</file>